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EFD-816B-4703-B9CA-3D0A277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CEA-AAD0-422F-BD26-6523FDF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142-47CC-46F3-A9E4-381413FA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429-42FF-4B46-BFCF-C509212F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A20-906A-4FCB-82FC-5706968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BD35-97D7-475C-9BA9-ECD142A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3354-0D30-4DAE-8DA0-D1AECF5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8C6-3CD9-4A1C-BE70-4CC63FAB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B130-6F7B-4C25-83DF-7D5E65D3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7317-D61B-4E2D-9D70-800329E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3EE-217C-4592-9453-43D5668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CC6-2B6E-46E3-9039-4ACEE53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AF8-E89E-4291-BC8A-5E9164E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FB4-C0DC-4CB5-ABED-DDCFEC6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0CD-AB66-4A8D-9C46-F820B5E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C736-9984-485F-8698-BFA04FBD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B2C-61B3-4C2E-B6BC-00871726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F3F-6EFC-4424-A273-4CF04C3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401-8EE4-47F1-B4AA-A0837E3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B59-BC44-4E68-A890-C75EF32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541-F8A6-4C76-9CDB-1C534029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D88-616D-44F3-8E40-C70B238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1E0-39CA-49DB-9643-654DB0B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D81-E4C0-4387-9BD2-C080203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EFE8-6FC2-4CE2-B208-5E37BEAAC588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3683-5AED-4A04-A593-1D731806D4F9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Google Accounts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Blog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ke a look at each others lo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209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One way that we can use a blog is to copy and paste our class notes. Or to post 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is the purpose of a blog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ow do I create a blog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gn-up for a gmail account at gmail.co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you newly created gmail username and password to create a blog on Google. CO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Go to gmail.com.  Sign-up for g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Use the first letter of you name combined with you last name and is223 as your user name at gmail.</a:t>
            </a:r>
            <a:br>
              <a:rPr sz="3200"/>
            </a:b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Example: jperezis223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Choose a password which is easy to rememb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an ISquad Blog using Googl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gn-in at Google.com using your gmail username and passwor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My Accoun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 Choo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Blogger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Create a </a:t>
            </a: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Blog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Name the Blog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: Use your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first name your school number ('s) ISquad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as the title for your blog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r example,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Joseis223's ISquad Blo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2) Name the Blog Address: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Again use your first name followed by your school number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) Choose a Template and press continu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4) You are done. You are ready to begin posting. Click: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Start Posting.</a:t>
            </a:r>
            <a:br>
              <a:rPr sz="2400"/>
            </a:b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art Post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Post a message briefly explaining how to create a blo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9:03:54Z</dcterms:modified>
  <cp:revision>6</cp:revision>
  <dc:subject/>
  <dc:title>Workshop Title</dc:title>
</cp:coreProperties>
</file>